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730A-4EFC-4A35-B602-A72C9F9CB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58E-C7D3-4383-801B-0D92A09B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0719-1141-41AF-ACB7-2ABFBC52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543-D0F9-4083-ABBD-EABE4443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5A7A-5D80-49A7-92E7-71768BA0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205-32F2-46CE-B60F-01AE965B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EB8C-1F18-488C-8AB4-97D07B65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190B-F2F8-4208-BB9A-038BB063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A76F-D8DA-40A5-84D2-68F6ECB7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EE4-7D1C-42FF-AF55-05177115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617-061E-4AF8-8757-51FB3061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A25-7A0C-4743-98DD-249CE033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8364-A249-49F3-87EB-EFFE239AF3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39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емля – наш дом»</a:t>
            </a:r>
            <a:br>
              <a:rPr sz="48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рассказу В.Астафьева «Хвостик»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20872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214720" y="928800"/>
            <a:ext cx="450036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357200" y="1214280"/>
            <a:ext cx="6481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705636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6978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Рабочий стол\Астафьев\дачники.jpg"/>
          <p:cNvPicPr/>
          <p:nvPr/>
        </p:nvPicPr>
        <p:blipFill>
          <a:blip r:embed="rId1"/>
          <a:stretch/>
        </p:blipFill>
        <p:spPr>
          <a:xfrm>
            <a:off x="539640" y="47628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C:\Documents and Settings\Admin\Рабочий стол\Астафьев\речной трамвайчик.jpg"/>
          <p:cNvPicPr/>
          <p:nvPr/>
        </p:nvPicPr>
        <p:blipFill>
          <a:blip r:embed="rId1"/>
          <a:stretch/>
        </p:blipFill>
        <p:spPr>
          <a:xfrm>
            <a:off x="395280" y="853920"/>
            <a:ext cx="8280360" cy="57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Admin\Рабочий стол\Астафьев\мусор.jpg"/>
          <p:cNvPicPr/>
          <p:nvPr/>
        </p:nvPicPr>
        <p:blipFill>
          <a:blip r:embed="rId1"/>
          <a:stretch/>
        </p:blipFill>
        <p:spPr>
          <a:xfrm>
            <a:off x="214200" y="476280"/>
            <a:ext cx="853452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Рабочий стол\Астафьев\смеющийся мальчик.gif"/>
          <p:cNvPicPr/>
          <p:nvPr/>
        </p:nvPicPr>
        <p:blipFill>
          <a:blip r:embed="rId1"/>
          <a:stretch/>
        </p:blipFill>
        <p:spPr>
          <a:xfrm>
            <a:off x="3924360" y="333360"/>
            <a:ext cx="4286160" cy="61912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611280" y="2447280"/>
            <a:ext cx="3857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ё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ливается, хохочет мальчик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...И был бы человек счастлив тем, что есть мир прекрасный вокруг него, и назначение его на земле — творить добро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.Астафь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Цинизм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– бесстыдство, наглость, грубая откровенность;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вызывающе-презрительное отношение к общепринятым нормам нравственности и морали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ff0000"/>
                </a:solidFill>
                <a:latin typeface="Albertus Medium"/>
              </a:rPr>
              <a:t>SOS</a:t>
            </a:r>
            <a:r>
              <a:rPr b="1" lang="ru-RU" sz="10000" spc="-1" strike="noStrike">
                <a:solidFill>
                  <a:srgbClr val="ff0000"/>
                </a:solidFill>
                <a:latin typeface="Calibri"/>
              </a:rPr>
              <a:t> – ПОМОГИТЕ!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5" name="6.mp3" descr=""/>
          <p:cNvPicPr/>
          <p:nvPr/>
        </p:nvPicPr>
        <p:blipFill>
          <a:blip r:embed="rId1"/>
          <a:stretch/>
        </p:blipFill>
        <p:spPr>
          <a:xfrm>
            <a:off x="835812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6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Как   спасти  Землю?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img--i-227776-w-600"/>
          <p:cNvPicPr/>
          <p:nvPr/>
        </p:nvPicPr>
        <p:blipFill>
          <a:blip r:embed="rId1"/>
          <a:srcRect l="0" t="0" r="0" b="5753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328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71424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ОХРАНА ПРИРОДЫ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  <a:ea typeface="Arial"/>
              </a:rPr>
              <a:t>– система мероприятий, направленных на рациональное использование, воспроизводство и защиту природы от загрязнений и разрушений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e46c0a"/>
                </a:solidFill>
                <a:uFillTx/>
                <a:latin typeface="Arial"/>
                <a:ea typeface="Arial"/>
              </a:rPr>
              <a:t>ЭКОЛОГИЯ</a:t>
            </a:r>
            <a:r>
              <a:rPr b="1" i="1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e46c0a"/>
                </a:solidFill>
                <a:latin typeface="Arial"/>
                <a:ea typeface="Arial"/>
              </a:rPr>
              <a:t>– это наука о взаимосвязях живых организмов между собой и окружающей сред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Monotype Corsiva"/>
                <a:ea typeface="Mangal"/>
              </a:rPr>
              <a:t>ОХРАНА  ПРИРОДЫ  И  ЭКОЛОГ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07136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«Сегодня на уроке я понял, что...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alibri"/>
              </a:rPr>
              <a:t>«Этот урок позволил мне...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арная работа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ели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[1]  – кружить, мести (о снег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бояз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[2] – небоязненный, безбоязный, бесстрапный, смелый, неустрашимый, отважны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ронзове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[3] –– 1.Выделяться своим бронзовым цветом. 2. Приобретать бронзовый цвет, оттен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авы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[4]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ава, выросшая на месте скошенной или на пастбище, на котором тем же летом уже пасся ско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стреч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[5]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бурям) – навстречу (буря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вечерь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[6]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время суток перед вече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ног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[7]  –  не имеет четко выраженной береговой линии, берега местами заболочены, много камыша, дно илист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урослеп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[8] –  народное название некоторых травянистых растений с желтыми цветками; куриная слепота.[9]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али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[10] – крапива (диал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 подолью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глушь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[11]  –  ср. глухое место, глушь; место пустопорожнее, небойкое, неторное, в стороне от больших дорог и сообщений; место скрытое за лесом, в овраге и п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омокл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[13]  – промокш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785960" y="2071800"/>
            <a:ext cx="561672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129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184720" cy="3720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1116000" y="723960"/>
            <a:ext cx="71280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1692360" y="1341360"/>
            <a:ext cx="5400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504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071720" y="1214280"/>
            <a:ext cx="742932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Рабочий стол\Астафьев\ГЭС.jpg"/>
          <p:cNvPicPr/>
          <p:nvPr/>
        </p:nvPicPr>
        <p:blipFill>
          <a:blip r:embed="rId1"/>
          <a:stretch/>
        </p:blipFill>
        <p:spPr>
          <a:xfrm>
            <a:off x="324000" y="476280"/>
            <a:ext cx="88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2:05:57Z</dcterms:created>
  <dc:creator/>
  <dc:description/>
  <dc:language>en-US</dc:language>
  <cp:lastModifiedBy>1</cp:lastModifiedBy>
  <dcterms:modified xsi:type="dcterms:W3CDTF">2018-12-07T02:46:34Z</dcterms:modified>
  <cp:revision>39</cp:revision>
  <dc:subject/>
  <dc:title>( по рассказу В.Астафьева «Хвостик»)</dc:title>
</cp:coreProperties>
</file>